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247-2EE8-4CAE-BB7E-D5857D6C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9C7-6413-473B-A52C-CD8CCC1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1D8-8A0D-47CB-B846-BD759C51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D33-5E95-4A01-A639-A0D3647C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ED0-AF02-4E10-B784-985AC2A1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4AD-2E30-45FF-984C-FD5397B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E38-1113-4597-BAD0-2938FA0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FE0-90C1-4C63-AC33-C2D877D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7ED-CD7D-4B6E-B713-3CF71FC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C79-7BEC-4FC0-8107-78BC2B1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E47-2531-419D-B53C-6D151E27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DB3-68AB-4208-B818-FDEAC1B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E194-ADC2-4C1C-AA49-41382048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ly cold winters and mild summer, Russia is a very cold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ussia, the usual temperature in the winter is 9-21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snows in Russia, in most places, the snow doesn’t melt for 200-240 day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ussai, there is a place that has a steppe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3720" y="380880"/>
            <a:ext cx="4952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ppe 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744280"/>
            <a:ext cx="5029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to hot dry summers and (very) cold winters with temperatures of -30°C and lower and sometimes heavy snowfall. sometimes very strong easterly winds,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occur, bringing freezing cold temperatures and snowst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3Z</dcterms:created>
  <dc:creator> </dc:creator>
  <dc:description/>
  <dc:language>en-US</dc:language>
  <cp:lastModifiedBy> </cp:lastModifiedBy>
  <dcterms:modified xsi:type="dcterms:W3CDTF">2010-12-14T19:28:57Z</dcterms:modified>
  <cp:revision>2</cp:revision>
  <dc:subject/>
  <dc:title>Subarctic climate</dc:title>
</cp:coreProperties>
</file>